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author's purpose" id="0">
      <p:sldLst>
        <p:sld r:id="rId7"/>
      </p:sldLst>
    </p:custShow>
    <p:custShow name="setting" id="1">
      <p:sldLst>
        <p:sld r:id="rId8"/>
      </p:sldLst>
    </p:custShow>
    <p:custShow name="character" id="2">
      <p:sldLst>
        <p:sld r:id="rId9"/>
      </p:sldLst>
    </p:custShow>
    <p:custShow name="plot" id="3">
      <p:sldLst>
        <p:sld r:id="rId13"/>
      </p:sldLst>
    </p:custShow>
    <p:custShow name="point of view" id="4">
      <p:sldLst>
        <p:sld r:id="rId14"/>
      </p:sldLst>
    </p:custShow>
    <p:custShow name="symbolism" id="5">
      <p:sldLst>
        <p:sld r:id="rId15"/>
      </p:sldLst>
    </p:custShow>
    <p:custShow name="style" id="6">
      <p:sldLst>
        <p:sld r:id="rId16"/>
      </p:sldLst>
    </p:custShow>
    <p:custShow name="theme" id="7">
      <p:sldLst>
        <p:sld r:id="rId17"/>
      </p:sldLst>
    </p:custShow>
    <p:custShow name="mood" id="8">
      <p:sldLst>
        <p:sld r:id="rId18"/>
      </p:sldLst>
    </p:custShow>
    <p:custShow name="character 1" id="9">
      <p:sldLst>
        <p:sld r:id="rId9"/>
      </p:sldLst>
    </p:custShow>
    <p:custShow name="characterization" id="10">
      <p:sldLst>
        <p:sld r:id="rId11"/>
      </p:sldLst>
    </p:custShow>
    <p:custShow name="character types" id="11">
      <p:sldLst>
        <p:sld r:id="rId12"/>
      </p:sldLst>
    </p:custShow>
    <p:custShow name="character page" id="1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AE0-59A0-46F0-8595-0E7DE608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41C-ABDE-4979-86A6-16F91732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568-9364-435E-BD51-A4130B36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591-7721-41A8-BC9C-423A4520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2485-3959-49C9-8C75-FA34E506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C154-BC79-482A-B812-14830B2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B358-294C-4EA3-9CFC-E690E76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86F-A42E-4A29-BFF0-DD063E8A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7045-B3CC-4DC1-87DC-B41FC4C8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2A1-FD9A-47DC-820B-7729D25C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5B64-51E1-4A43-83F3-F3AE7E5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CCB-3FF6-4E19-B0CD-95FC6F7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40B-2FEC-4095-AC8D-DE2EF9E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80A3-67E1-4669-B249-A19BC1A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912F-8CF6-4B02-B4A5-9583067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EAA9-0075-445D-8C94-462FA35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A804-88AB-489E-A82E-FAC4BD92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F41-747E-419C-8467-AC4C654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50D-F054-4102-A557-4259A225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DA9-EBBB-4075-8306-623F96D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C5A-CFF3-4032-9A32-AD98CC15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090-A628-4DA0-A42D-C18861F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71E-01DC-4094-9725-5CD29B2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C82-6C90-4D01-8CC6-090C678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16E-5A36-469C-B9FA-6EBB8C55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8604-EDDA-4AA7-BD02-D3FA23AD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T’S STORY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8" descr="o4rjenjm[1]"/>
          <p:cNvPicPr/>
          <p:nvPr/>
        </p:nvPicPr>
        <p:blipFill>
          <a:blip r:embed="rId1"/>
          <a:stretch/>
        </p:blipFill>
        <p:spPr>
          <a:xfrm>
            <a:off x="3657600" y="2971800"/>
            <a:ext cx="213372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 is the action of a story. It is the series of related events that the author describes from the beginning of the story to the end. Most plots follow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ronological o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In other words, they proceed in the order in which the events happ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457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irst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story is told by one of the characters. The character uses pronouns such a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usually participates in much of the ac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ird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story is told by a narrator who is not a character in the story. (Pronouns such a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he, 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used when writing i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ird-person point of 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mbol is something concrete—such as a person, place, or object—that signifies something more than just itself, something abstract, such as a concept or an ide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ymbols you will probably be familiar with alread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eart symbolizes 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ove symbolizes 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eipc2mrc[1]"/>
          <p:cNvPicPr/>
          <p:nvPr/>
        </p:nvPicPr>
        <p:blipFill>
          <a:blip r:embed="rId1"/>
          <a:stretch/>
        </p:blipFill>
        <p:spPr>
          <a:xfrm>
            <a:off x="6248520" y="3276720"/>
            <a:ext cx="1692000" cy="21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yle is the way writers express their ideas. It’s how they say something, not what they say. Style involves these three el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ch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entence structure and l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Literary devices, such as figurative language, symbols, dialogue, and imag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413pizyh[1]"/>
          <p:cNvPicPr/>
          <p:nvPr/>
        </p:nvPicPr>
        <p:blipFill>
          <a:blip r:embed="rId1"/>
          <a:stretch/>
        </p:blipFill>
        <p:spPr>
          <a:xfrm>
            <a:off x="6934320" y="2590920"/>
            <a:ext cx="152388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r’s message, or main point, is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his or her literary work. Looking for a theme helps you look more deeply into the literature and makes for more enjoyable read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need to infer what the theme is from the work’s title, key scenes, characters, symbols, and plot eve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4716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od of a literary work is the feelings that a writer wants readers to have while reading. It’s the atmosphere that’s created. Writers can choose words, phrases, and images to create a whole range of moods—from anger and sadness to excitement and fe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7" descr="qmrw0r1l[1]"/>
          <p:cNvPicPr/>
          <p:nvPr/>
        </p:nvPicPr>
        <p:blipFill>
          <a:blip r:embed="rId1"/>
          <a:stretch/>
        </p:blipFill>
        <p:spPr>
          <a:xfrm>
            <a:off x="5029200" y="1295280"/>
            <a:ext cx="3403440" cy="4419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47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ISTORICAL FICTION—SHORT STORIE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76160" y="441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of Fi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OF FI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’s Purpo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1" descr="30yyu_2w[1]"/>
          <p:cNvPicPr/>
          <p:nvPr/>
        </p:nvPicPr>
        <p:blipFill>
          <a:blip r:embed="rId1"/>
          <a:stretch/>
        </p:blipFill>
        <p:spPr>
          <a:xfrm>
            <a:off x="4876920" y="1676520"/>
            <a:ext cx="361620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hor’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7" descr="pc305484"/>
          <p:cNvPicPr/>
          <p:nvPr/>
        </p:nvPicPr>
        <p:blipFill>
          <a:blip r:embed="rId1"/>
          <a:stretch/>
        </p:blipFill>
        <p:spPr>
          <a:xfrm>
            <a:off x="0" y="0"/>
            <a:ext cx="1666800" cy="2143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uthor’s reason for creating a particular work is called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hor’s purpo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Sometimes the author will state his or her purpose up front. Other times you’ll need to make inferences (reasonable guesses) about the author’s purpos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are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fo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asic reasons an author might choose to wri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xplain or in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ntert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persu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nlighten or reveal an important tru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0" descr="j0090386"/>
          <p:cNvPicPr/>
          <p:nvPr/>
        </p:nvPicPr>
        <p:blipFill>
          <a:blip r:embed="rId1"/>
          <a:stretch/>
        </p:blipFill>
        <p:spPr>
          <a:xfrm>
            <a:off x="685800" y="1752480"/>
            <a:ext cx="2698920" cy="2309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3581280" y="175248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ould talk about the where and when of a story, what you’re really talking about is the story’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ing a story’s setting can give you a context for the events of the plot. It can also give you clues about the mood, or atmosphere, of a stor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character is a person, an animal, or an imaginary creature that takes part in the action of a story. Sometimes the author will directly describe a character’s appearance, personality, or feelings. Other times the author will leave clues and expect you to draw conclusions about what the person or animal is like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4" descr="index_br"/>
          <p:cNvPicPr/>
          <p:nvPr/>
        </p:nvPicPr>
        <p:blipFill>
          <a:blip r:embed="rId1"/>
          <a:stretch/>
        </p:blipFill>
        <p:spPr>
          <a:xfrm>
            <a:off x="2209680" y="3429000"/>
            <a:ext cx="5334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4800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 Ty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2" descr="nav_mon_over"/>
          <p:cNvPicPr/>
          <p:nvPr/>
        </p:nvPicPr>
        <p:blipFill>
          <a:blip r:embed="rId1"/>
          <a:stretch/>
        </p:blipFill>
        <p:spPr>
          <a:xfrm>
            <a:off x="5257800" y="1219320"/>
            <a:ext cx="32004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3772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ACTERIZ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uthor can give information about a character by describing several aspects of the charac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appearance and pers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ech, behavior, and 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ughts and feel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ons with other characte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21" descr="spacer"/>
          <p:cNvPicPr/>
          <p:nvPr/>
        </p:nvPicPr>
        <p:blipFill>
          <a:blip r:embed="rId1"/>
          <a:stretch/>
        </p:blipFill>
        <p:spPr>
          <a:xfrm>
            <a:off x="6491160" y="46054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"/>
          <p:cNvPicPr/>
          <p:nvPr/>
        </p:nvPicPr>
        <p:blipFill>
          <a:blip r:embed="rId2"/>
          <a:srcRect l="4001" t="30668" r="26000" b="17338"/>
          <a:stretch/>
        </p:blipFill>
        <p:spPr>
          <a:xfrm>
            <a:off x="4419720" y="2057400"/>
            <a:ext cx="41907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304920"/>
            <a:ext cx="77724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RACTER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tories have both main and minor characters. The main character, or protagonist, is the most important charac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ction of the plot revolves around him or her. Often the antagonist, the person or thing working against the protagonist, is also a main character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9" descr="incredibles"/>
          <p:cNvPicPr/>
          <p:nvPr/>
        </p:nvPicPr>
        <p:blipFill>
          <a:blip r:embed="rId1"/>
          <a:stretch/>
        </p:blipFill>
        <p:spPr>
          <a:xfrm>
            <a:off x="2590920" y="914400"/>
            <a:ext cx="38242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9:20:32Z</dcterms:created>
  <dc:creator>Reward</dc:creator>
  <dc:description/>
  <dc:language>en-US</dc:language>
  <cp:lastModifiedBy>teacher</cp:lastModifiedBy>
  <dcterms:modified xsi:type="dcterms:W3CDTF">2011-01-20T15:56:32Z</dcterms:modified>
  <cp:revision>65</cp:revision>
  <dc:subject/>
  <dc:title>Slide 1</dc:title>
</cp:coreProperties>
</file>